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DEA-29E3-48B7-AB29-79E84F55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D74-7BEA-4272-AB7B-3802E83F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184-BDA0-4921-997E-1436607F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3E8-B814-4799-909D-9C478179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4838-11A7-46A6-8C20-A71A16FF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EB6F-E569-45B3-BAAE-0171D2A3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4FFD-6B76-4817-B8C0-1A88FD5A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51CA-DC69-40CB-AD38-F83D9348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1C4D-6026-4F01-ACA9-2FE55032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19EE-4FE5-4E68-A93F-EB77CE74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3F27-9558-423B-AA5D-9E42E21F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ABC-2F7E-446F-97D2-C291FE49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BE49-8BAB-46C0-A1AF-0DF378D1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2010-1C21-48DC-9DA6-F63040BB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B6F8-3021-4F38-A5A6-58C4F275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B67D-44E2-4D32-9ADD-61389631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BA30-3EA3-4219-9514-A0EAE0F7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6E8C2-94E2-44DD-8277-B090593F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5C2C1-334D-45A9-A0E0-8E0463FA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FEF3F-DDC8-4F27-99E0-8A98E3B6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E2081-A21F-4221-B39E-BDB41C09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CBC0A-1155-404A-841C-10B8D4D2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60C-206A-48D5-B62D-174EAD44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474AF-D4F5-439E-9DB9-A1438531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1964B-4015-4A4D-923F-EDCD9499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4A7B7-EC48-458C-9CB1-D24A9D2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565BF-D54F-49C5-8754-028FE15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2FDF0-5ECE-4AF1-8723-DBCDF7C3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770BA-69AE-4E64-A4AF-12F02AB0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8E52D-D684-4C25-8F06-34F3D523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4B8B5-2041-410B-B552-22924D26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30B2C-B4CC-478A-A63D-628FC1D7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8A3ED-2441-42EC-9DEC-6FD65382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A9D-20BA-4A77-9654-D7639E2F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079FF-C0B9-41D2-B25E-AF33CBE5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85E45-9F61-4FB5-A441-569BC446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2EA33-ED0D-4DC4-A0E6-AC8EBFCC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3D693-8A69-424F-AD34-C54B4FBD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0639C-5472-433C-9024-43AA3F0B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AFDDF-9066-46EF-9643-E5B9D197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84294-687A-43D2-A836-EEC1A2A2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318AB-A893-424F-9425-5EFDC200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E8CE2-F0D0-43DE-A624-029AE588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DF92C-DAB6-453D-AD90-D1BD5B16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901-44E1-40EE-901A-7DDFC4CD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36344-6024-4215-8526-64C62256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55DA9-242B-4D01-A6AA-933BE7F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D3E1A-50E5-4ADD-A438-35CFC9EE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733F0-5CB9-496D-8CAB-F7023665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EAB67-21BD-4E37-A362-9C8EB53F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18BDA-AC3B-4369-BF00-2379ACA2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DCC50-0CE8-4EC6-A97E-9E95ED71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499EC-E5E5-4332-9802-69C35B2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2FF35-522D-4AD7-B6CC-727992BA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CD345-0348-466A-BA60-999F3DF5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FC8-4FBD-4D2E-8CE8-4D976586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24938-1008-4987-89B2-E1385402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F54-0A53-440C-9C2A-62D54620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A75-C34C-473C-9940-B327AA0F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D34-4D3B-4F95-8890-EC3DE22C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E0D8-4186-45D9-89CD-214527A3BD2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9E88-A326-4D6D-B715-28BEE62F07A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CEDB-ACD5-4453-9FBE-3B7018B2465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dt" idx="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1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6097-0CC8-408B-8BBC-8DFF8887B52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dt" idx="1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4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C4E0-A844-4A9D-8A29-8445E972C18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dt" idx="1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042560" y="1484280"/>
            <a:ext cx="69138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Активные формы контроля и оценки знаний учащихся»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 Гаибов Д.С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1960" y="25560"/>
            <a:ext cx="7766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ПРИНЦИПЫ КОНТРОЛЯ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65280" y="1412640"/>
            <a:ext cx="7765920" cy="36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82880" indent="-1828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инцип цели – определение цели контроля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182880" indent="-1828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инцип объективности вывода результатов – установление конкретных объективно необходимых результатов обучения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182880" indent="-1828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инцип организации – организация контроля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182880" indent="-1828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инцип объективности оценки результатов – нахождение пути объективного анализа и оценки итогов контроля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3200400" y="657360"/>
            <a:ext cx="2523960" cy="11160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"/>
              </a:rPr>
              <a:t>Цели контроля зн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3276720" y="3284640"/>
            <a:ext cx="2087280" cy="720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"/>
              </a:rPr>
              <a:t>Овладение умени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971640" y="3284640"/>
            <a:ext cx="1871640" cy="720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"/>
              </a:rPr>
              <a:t>Усвоение зн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5796000" y="3284640"/>
            <a:ext cx="1871640" cy="720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Rockwell"/>
              </a:rPr>
              <a:t>Сформированность мыслительных опер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Овал 7"/>
          <p:cNvSpPr/>
          <p:nvPr/>
        </p:nvSpPr>
        <p:spPr>
          <a:xfrm>
            <a:off x="2055960" y="4653000"/>
            <a:ext cx="21920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Rockwell"/>
              </a:rPr>
              <a:t>специальны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Овал 8"/>
          <p:cNvSpPr/>
          <p:nvPr/>
        </p:nvSpPr>
        <p:spPr>
          <a:xfrm>
            <a:off x="5148360" y="4653000"/>
            <a:ext cx="223200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Rockwell"/>
              </a:rPr>
              <a:t>общеучебны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3" name="Прямая со стрелкой 11"/>
          <p:cNvCxnSpPr>
            <a:stCxn id="237" idx="2"/>
            <a:endCxn id="238" idx="0"/>
          </p:cNvCxnSpPr>
          <p:nvPr/>
        </p:nvCxnSpPr>
        <p:spPr>
          <a:xfrm flipH="1">
            <a:off x="4320360" y="1773360"/>
            <a:ext cx="142200" cy="151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4" name="Прямая со стрелкой 13"/>
          <p:cNvCxnSpPr>
            <a:stCxn id="238" idx="2"/>
          </p:cNvCxnSpPr>
          <p:nvPr/>
        </p:nvCxnSpPr>
        <p:spPr>
          <a:xfrm flipH="1">
            <a:off x="2842560" y="4005000"/>
            <a:ext cx="147708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5" name="Прямая со стрелкой 15"/>
          <p:cNvCxnSpPr>
            <a:stCxn id="238" idx="2"/>
          </p:cNvCxnSpPr>
          <p:nvPr/>
        </p:nvCxnSpPr>
        <p:spPr>
          <a:xfrm>
            <a:off x="4319640" y="4005000"/>
            <a:ext cx="140544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6" name="Прямая со стрелкой 17"/>
          <p:cNvCxnSpPr>
            <a:stCxn id="237" idx="2"/>
          </p:cNvCxnSpPr>
          <p:nvPr/>
        </p:nvCxnSpPr>
        <p:spPr>
          <a:xfrm flipH="1">
            <a:off x="2267640" y="1773360"/>
            <a:ext cx="2194920" cy="151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7" name="Прямая со стрелкой 19"/>
          <p:cNvCxnSpPr>
            <a:stCxn id="237" idx="2"/>
          </p:cNvCxnSpPr>
          <p:nvPr/>
        </p:nvCxnSpPr>
        <p:spPr>
          <a:xfrm>
            <a:off x="4462200" y="1773360"/>
            <a:ext cx="1910520" cy="900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ВИДЫ КОНТРОЛЯ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49" name="Diagram 5"/>
          <p:cNvGrpSpPr/>
          <p:nvPr/>
        </p:nvGrpSpPr>
        <p:grpSpPr>
          <a:xfrm>
            <a:off x="1547640" y="1638000"/>
            <a:ext cx="6264360" cy="4680000"/>
            <a:chOff x="1547640" y="1638000"/>
            <a:chExt cx="6264360" cy="4680000"/>
          </a:xfrm>
        </p:grpSpPr>
        <p:sp>
          <p:nvSpPr>
            <p:cNvPr id="250" name="_s2052"/>
            <p:cNvSpPr/>
            <p:nvPr/>
          </p:nvSpPr>
          <p:spPr>
            <a:xfrm flipH="1">
              <a:off x="3600360" y="397836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2053"/>
            <p:cNvSpPr/>
            <p:nvPr/>
          </p:nvSpPr>
          <p:spPr>
            <a:xfrm>
              <a:off x="1547640" y="3393000"/>
              <a:ext cx="2052720" cy="1170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тогов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2054"/>
            <p:cNvSpPr/>
            <p:nvPr/>
          </p:nvSpPr>
          <p:spPr>
            <a:xfrm>
              <a:off x="4572000" y="4563000"/>
              <a:ext cx="0" cy="58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2055"/>
            <p:cNvSpPr/>
            <p:nvPr/>
          </p:nvSpPr>
          <p:spPr>
            <a:xfrm>
              <a:off x="3348000" y="5148000"/>
              <a:ext cx="2448000" cy="11700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Тематическ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2056"/>
            <p:cNvSpPr/>
            <p:nvPr/>
          </p:nvSpPr>
          <p:spPr>
            <a:xfrm>
              <a:off x="5057640" y="397836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2057"/>
            <p:cNvSpPr/>
            <p:nvPr/>
          </p:nvSpPr>
          <p:spPr>
            <a:xfrm>
              <a:off x="5543640" y="3393000"/>
              <a:ext cx="2268360" cy="1170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Текущ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2058"/>
            <p:cNvSpPr/>
            <p:nvPr/>
          </p:nvSpPr>
          <p:spPr>
            <a:xfrm flipV="1">
              <a:off x="4572000" y="2808000"/>
              <a:ext cx="0" cy="58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2059"/>
            <p:cNvSpPr/>
            <p:nvPr/>
          </p:nvSpPr>
          <p:spPr>
            <a:xfrm>
              <a:off x="3276720" y="1638000"/>
              <a:ext cx="2590560" cy="11700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едваритель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2060"/>
            <p:cNvSpPr/>
            <p:nvPr/>
          </p:nvSpPr>
          <p:spPr>
            <a:xfrm>
              <a:off x="3851280" y="3393000"/>
              <a:ext cx="1512720" cy="1170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Контроль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solidFill>
            <a:srgbClr val="2a5b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ФОРМЫ КОНТРОЛЯ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0" name="Овал 1"/>
          <p:cNvSpPr/>
          <p:nvPr/>
        </p:nvSpPr>
        <p:spPr>
          <a:xfrm>
            <a:off x="0" y="3141720"/>
            <a:ext cx="4284720" cy="1942920"/>
          </a:xfrm>
          <a:prstGeom prst="ellipse">
            <a:avLst/>
          </a:prstGeom>
          <a:solidFill>
            <a:srgbClr val="9ec5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с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"/>
          <p:cNvSpPr/>
          <p:nvPr/>
        </p:nvSpPr>
        <p:spPr>
          <a:xfrm>
            <a:off x="4356000" y="3213000"/>
            <a:ext cx="4788000" cy="1800360"/>
          </a:xfrm>
          <a:prstGeom prst="ellipse">
            <a:avLst/>
          </a:prstGeom>
          <a:solidFill>
            <a:srgbClr val="9ec5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solidFill>
            <a:srgbClr val="90b63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СПОСОБЫ КОНТРОЛЯ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3" name="Скругленный прямоугольник 3"/>
          <p:cNvSpPr/>
          <p:nvPr/>
        </p:nvSpPr>
        <p:spPr>
          <a:xfrm>
            <a:off x="1116000" y="2421000"/>
            <a:ext cx="2376360" cy="863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4"/>
          <p:cNvSpPr/>
          <p:nvPr/>
        </p:nvSpPr>
        <p:spPr>
          <a:xfrm>
            <a:off x="3348000" y="3645000"/>
            <a:ext cx="2376360" cy="1008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Скругленный прямоугольник 5"/>
          <p:cNvSpPr/>
          <p:nvPr/>
        </p:nvSpPr>
        <p:spPr>
          <a:xfrm>
            <a:off x="6084720" y="4797360"/>
            <a:ext cx="2519640" cy="1008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solidFill>
            <a:srgbClr val="2a5b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ПРИМЕРЫ ПРИМЕНЕНИЯ РАЗЛИЧНЫХ ФОРМ КОНТРОЛЯ В ОПРЕДЕЛЕННЫХ ЕГО ВИДАХ</a:t>
            </a:r>
            <a:endParaRPr b="1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39640" y="1484280"/>
          <a:ext cx="8147160" cy="4810320"/>
        </p:xfrm>
        <a:graphic>
          <a:graphicData uri="http://schemas.openxmlformats.org/drawingml/2006/table">
            <a:tbl>
              <a:tblPr/>
              <a:tblGrid>
                <a:gridCol w="2232000"/>
                <a:gridCol w="5915160"/>
              </a:tblGrid>
              <a:tr h="800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контро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ущ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ный опр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карточка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сьменная провер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овые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вый контро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ктическая или лабораторная ра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 ра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овые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зам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Organization Chart 4"/>
          <p:cNvGrpSpPr/>
          <p:nvPr/>
        </p:nvGrpSpPr>
        <p:grpSpPr>
          <a:xfrm>
            <a:off x="1700640" y="1430280"/>
            <a:ext cx="5441400" cy="3874680"/>
            <a:chOff x="1700640" y="1430280"/>
            <a:chExt cx="5441400" cy="3874680"/>
          </a:xfrm>
        </p:grpSpPr>
        <p:cxnSp>
          <p:nvCxnSpPr>
            <p:cNvPr id="269" name="_s3076"/>
            <p:cNvCxnSpPr>
              <a:stCxn id="270" idx="0"/>
              <a:endCxn id="271" idx="2"/>
            </p:cNvCxnSpPr>
            <p:nvPr/>
          </p:nvCxnSpPr>
          <p:spPr>
            <a:xfrm flipV="1" rot="16200000">
              <a:off x="4220640" y="2820960"/>
              <a:ext cx="1912320" cy="1426680"/>
            </a:xfrm>
            <a:prstGeom prst="bentConnector3">
              <a:avLst>
                <a:gd name="adj1" fmla="val 5968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72" name="_s3077"/>
            <p:cNvCxnSpPr/>
            <p:nvPr/>
          </p:nvCxnSpPr>
          <p:spPr>
            <a:xfrm flipV="1" rot="16200000">
              <a:off x="4848480" y="2187720"/>
              <a:ext cx="644760" cy="1425240"/>
            </a:xfrm>
            <a:prstGeom prst="bentConnector3">
              <a:avLst>
                <a:gd name="adj1" fmla="val 1770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73" name="_s3078"/>
            <p:cNvCxnSpPr>
              <a:stCxn id="274" idx="0"/>
              <a:endCxn id="271" idx="2"/>
            </p:cNvCxnSpPr>
            <p:nvPr/>
          </p:nvCxnSpPr>
          <p:spPr>
            <a:xfrm flipH="1" flipV="1" rot="5400000">
              <a:off x="3402720" y="2196360"/>
              <a:ext cx="680040" cy="1443600"/>
            </a:xfrm>
            <a:prstGeom prst="bentConnector3">
              <a:avLst>
                <a:gd name="adj1" fmla="val 1673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75" name="_s3079"/>
            <p:cNvCxnSpPr>
              <a:stCxn id="276" idx="0"/>
              <a:endCxn id="271" idx="2"/>
            </p:cNvCxnSpPr>
            <p:nvPr/>
          </p:nvCxnSpPr>
          <p:spPr>
            <a:xfrm flipH="1" flipV="1" rot="5400000">
              <a:off x="2769840" y="2796480"/>
              <a:ext cx="1912320" cy="1475640"/>
            </a:xfrm>
            <a:prstGeom prst="bentConnector3">
              <a:avLst>
                <a:gd name="adj1" fmla="val 5968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71" name="_s3080"/>
            <p:cNvSpPr/>
            <p:nvPr/>
          </p:nvSpPr>
          <p:spPr>
            <a:xfrm>
              <a:off x="3060000" y="1430280"/>
              <a:ext cx="2807640" cy="114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Принципы контрол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_s3081"/>
            <p:cNvSpPr/>
            <p:nvPr/>
          </p:nvSpPr>
          <p:spPr>
            <a:xfrm>
              <a:off x="1700640" y="4490640"/>
              <a:ext cx="2576160" cy="81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Нагляд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3082"/>
            <p:cNvSpPr/>
            <p:nvPr/>
          </p:nvSpPr>
          <p:spPr>
            <a:xfrm>
              <a:off x="1700640" y="3258360"/>
              <a:ext cx="2640240" cy="81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бъектив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_s3083"/>
            <p:cNvSpPr/>
            <p:nvPr/>
          </p:nvSpPr>
          <p:spPr>
            <a:xfrm>
              <a:off x="4635360" y="3223080"/>
              <a:ext cx="2506680" cy="84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Всесторон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3084"/>
            <p:cNvSpPr/>
            <p:nvPr/>
          </p:nvSpPr>
          <p:spPr>
            <a:xfrm>
              <a:off x="4635360" y="4490640"/>
              <a:ext cx="2506680" cy="81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Систематич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Результаты контроля учебно-познавательной деятельности учащихся выражаются в её оценке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Оценка – это характеристика ценности, уровня или значения каких либо объектов или процессов (словарь Ожегова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Оценка в образовании представляет собой установление качества приобретенных знаний, умений и навыков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Organization Chart 4"/>
          <p:cNvGrpSpPr/>
          <p:nvPr/>
        </p:nvGrpSpPr>
        <p:grpSpPr>
          <a:xfrm>
            <a:off x="1691640" y="549360"/>
            <a:ext cx="5457960" cy="1306800"/>
            <a:chOff x="1691640" y="549360"/>
            <a:chExt cx="5457960" cy="1306800"/>
          </a:xfrm>
        </p:grpSpPr>
        <p:cxnSp>
          <p:nvCxnSpPr>
            <p:cNvPr id="280" name="_s4100"/>
            <p:cNvCxnSpPr/>
            <p:nvPr/>
          </p:nvCxnSpPr>
          <p:spPr>
            <a:xfrm flipV="1" rot="16200000">
              <a:off x="5047920" y="680760"/>
              <a:ext cx="302040" cy="1397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81" name="_s4101"/>
            <p:cNvCxnSpPr>
              <a:stCxn id="282" idx="0"/>
              <a:endCxn id="283" idx="2"/>
            </p:cNvCxnSpPr>
            <p:nvPr/>
          </p:nvCxnSpPr>
          <p:spPr>
            <a:xfrm flipH="1" flipV="1" rot="5400000">
              <a:off x="3501360" y="363960"/>
              <a:ext cx="526320" cy="150372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83" name="_s4102"/>
            <p:cNvSpPr/>
            <p:nvPr/>
          </p:nvSpPr>
          <p:spPr>
            <a:xfrm>
              <a:off x="3112200" y="549360"/>
              <a:ext cx="2807640" cy="30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Принципы оценк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4103"/>
            <p:cNvSpPr/>
            <p:nvPr/>
          </p:nvSpPr>
          <p:spPr>
            <a:xfrm>
              <a:off x="1691640" y="1378800"/>
              <a:ext cx="2641680" cy="477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бъектив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4104"/>
            <p:cNvSpPr/>
            <p:nvPr/>
          </p:nvSpPr>
          <p:spPr>
            <a:xfrm>
              <a:off x="4642920" y="1378800"/>
              <a:ext cx="2506680" cy="477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Глас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Rockwell"/>
              </a:rPr>
              <a:t>Правильно установленная и выраженная оценка учебной деятельности учащихся служит важным стимулом формирования познавательных интересов, положительных качеств личности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Rockwell"/>
              </a:rPr>
              <a:t>Ошибка в оценке вызывает обычно серьёзные осложнения в обучении, воспитании и развитии учащихся, отрицательно влияя на результативность учебно-воспитательного процесса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СПОСОБЫ ВЫРАЖЕНИЯ ОЦЕНКИ. 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Словесные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Количественные (отметка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76720" y="1717560"/>
            <a:ext cx="3887640" cy="1297080"/>
          </a:xfrm>
          <a:prstGeom prst="wedgeEllipseCallout">
            <a:avLst>
              <a:gd name="adj1" fmla="val -65638"/>
              <a:gd name="adj2" fmla="val 62731"/>
            </a:avLst>
          </a:prstGeom>
          <a:solidFill>
            <a:srgbClr val="2a5b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одец, хорошо, можешь лучше и т.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84720" y="3943440"/>
            <a:ext cx="3097080" cy="1150920"/>
          </a:xfrm>
          <a:prstGeom prst="wedgeEllipseCallout">
            <a:avLst>
              <a:gd name="adj1" fmla="val -45027"/>
              <a:gd name="adj2" fmla="val 62967"/>
            </a:avLst>
          </a:prstGeom>
          <a:solidFill>
            <a:srgbClr val="2a5b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, 2, 3, 4, 5 и т.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 - проверка, а также постоянное наблюдение в целях проверки или надзора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 в системе образования представляет собой систему проверки знаний и умений учащихся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Diagram 5"/>
          <p:cNvGrpSpPr/>
          <p:nvPr/>
        </p:nvGrpSpPr>
        <p:grpSpPr>
          <a:xfrm>
            <a:off x="941400" y="549360"/>
            <a:ext cx="6900120" cy="6045480"/>
            <a:chOff x="941400" y="549360"/>
            <a:chExt cx="6900120" cy="6045480"/>
          </a:xfrm>
        </p:grpSpPr>
        <p:sp>
          <p:nvSpPr>
            <p:cNvPr id="291" name="_s5124"/>
            <p:cNvSpPr/>
            <p:nvPr/>
          </p:nvSpPr>
          <p:spPr>
            <a:xfrm flipH="1" flipV="1">
              <a:off x="3147480" y="2814840"/>
              <a:ext cx="621360" cy="37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_s5125"/>
            <p:cNvSpPr/>
            <p:nvPr/>
          </p:nvSpPr>
          <p:spPr>
            <a:xfrm>
              <a:off x="941400" y="1893240"/>
              <a:ext cx="2299680" cy="15091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КОРРЕКТИРУЮЩ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_s5126"/>
            <p:cNvSpPr/>
            <p:nvPr/>
          </p:nvSpPr>
          <p:spPr>
            <a:xfrm flipH="1">
              <a:off x="3147480" y="3948840"/>
              <a:ext cx="621360" cy="37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_s5127"/>
            <p:cNvSpPr/>
            <p:nvPr/>
          </p:nvSpPr>
          <p:spPr>
            <a:xfrm>
              <a:off x="941400" y="3716280"/>
              <a:ext cx="2203560" cy="15141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ТИМУЛИРУЮЩ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_s5128"/>
            <p:cNvSpPr/>
            <p:nvPr/>
          </p:nvSpPr>
          <p:spPr>
            <a:xfrm>
              <a:off x="4391640" y="4326480"/>
              <a:ext cx="0" cy="75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5129"/>
            <p:cNvSpPr/>
            <p:nvPr/>
          </p:nvSpPr>
          <p:spPr>
            <a:xfrm>
              <a:off x="3241440" y="5082840"/>
              <a:ext cx="2396880" cy="1512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ВОСПИТЫВАЮЩ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5130"/>
            <p:cNvSpPr/>
            <p:nvPr/>
          </p:nvSpPr>
          <p:spPr>
            <a:xfrm>
              <a:off x="5013720" y="3948840"/>
              <a:ext cx="621360" cy="37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_s5131"/>
            <p:cNvSpPr/>
            <p:nvPr/>
          </p:nvSpPr>
          <p:spPr>
            <a:xfrm>
              <a:off x="5541840" y="3815640"/>
              <a:ext cx="2299680" cy="151128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РАЗВИВАЮЩ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5132"/>
            <p:cNvSpPr/>
            <p:nvPr/>
          </p:nvSpPr>
          <p:spPr>
            <a:xfrm flipV="1">
              <a:off x="5013720" y="2814840"/>
              <a:ext cx="621360" cy="37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_s5133"/>
            <p:cNvSpPr/>
            <p:nvPr/>
          </p:nvSpPr>
          <p:spPr>
            <a:xfrm>
              <a:off x="5541840" y="2019240"/>
              <a:ext cx="2299680" cy="1512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ОБУЧАЮЩ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_s5134"/>
            <p:cNvSpPr/>
            <p:nvPr/>
          </p:nvSpPr>
          <p:spPr>
            <a:xfrm flipV="1">
              <a:off x="4391640" y="2061000"/>
              <a:ext cx="0" cy="7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5135"/>
            <p:cNvSpPr/>
            <p:nvPr/>
          </p:nvSpPr>
          <p:spPr>
            <a:xfrm>
              <a:off x="3144960" y="549360"/>
              <a:ext cx="2396880" cy="15120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ДИАГНОСТИЧЕСК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_s5136"/>
            <p:cNvSpPr/>
            <p:nvPr/>
          </p:nvSpPr>
          <p:spPr>
            <a:xfrm>
              <a:off x="3337560" y="2817000"/>
              <a:ext cx="2107800" cy="1512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ФУНК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ОЦЕН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5"/>
          <p:cNvSpPr/>
          <p:nvPr/>
        </p:nvSpPr>
        <p:spPr>
          <a:xfrm>
            <a:off x="179280" y="227160"/>
            <a:ext cx="3672000" cy="2160360"/>
          </a:xfrm>
          <a:prstGeom prst="rightArrowCallout">
            <a:avLst>
              <a:gd name="adj1" fmla="val 25002"/>
              <a:gd name="adj2" fmla="val 25000"/>
              <a:gd name="adj3" fmla="val 28329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33280" y="803160"/>
            <a:ext cx="23767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ИАГНОСТИЧЕСК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ФУНКЦИЯ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6560" y="3822480"/>
            <a:ext cx="8229600" cy="18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Rockwell"/>
              </a:rPr>
              <a:t>Использование различных форм контроля: тесты, к.р., самооценка, оценивание другими учащимися и т.п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Rockwell"/>
              </a:rPr>
              <a:t>Использовать отметку и словесную оценку: отметка измеряет результаты обучения, словесная оценка измеряет старательность, вселяя в ученика уверенность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873600" y="227160"/>
            <a:ext cx="4824360" cy="22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рение усвоения учащими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ого материала, опреде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мов усвоения материал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убины поним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5003640" y="2565360"/>
            <a:ext cx="3097440" cy="1152720"/>
          </a:xfrm>
          <a:prstGeom prst="downArrowCallout">
            <a:avLst>
              <a:gd name="adj1" fmla="val 67183"/>
              <a:gd name="adj2" fmla="val 68383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/>
          <p:cNvSpPr/>
          <p:nvPr/>
        </p:nvSpPr>
        <p:spPr>
          <a:xfrm>
            <a:off x="285840" y="728640"/>
            <a:ext cx="3600360" cy="2160720"/>
          </a:xfrm>
          <a:prstGeom prst="rightArrowCallout">
            <a:avLst>
              <a:gd name="adj1" fmla="val 25002"/>
              <a:gd name="adj2" fmla="val 25000"/>
              <a:gd name="adj3" fmla="val 27771"/>
              <a:gd name="adj4" fmla="val 6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1310760"/>
            <a:ext cx="2303280" cy="1008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БУЧАЮЩ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ФУНКЦИЯ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44480" y="4509720"/>
            <a:ext cx="822960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Осуществление быстрой обратной связи: показать, что сделано правильно, а где есть неточности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Использование различных приёмов проверки ЗУН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4903920" y="3124080"/>
            <a:ext cx="3097080" cy="1224000"/>
          </a:xfrm>
          <a:prstGeom prst="downArrowCallout">
            <a:avLst>
              <a:gd name="adj1" fmla="val 63263"/>
              <a:gd name="adj2" fmla="val 64393"/>
              <a:gd name="adj3" fmla="val 16667"/>
              <a:gd name="adj4" fmla="val 6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932280" y="728640"/>
            <a:ext cx="5041800" cy="22320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ри контроле прироста знаний, умений и навы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250920" y="736560"/>
            <a:ext cx="3600360" cy="2160720"/>
          </a:xfrm>
          <a:prstGeom prst="rightArrowCallout">
            <a:avLst>
              <a:gd name="adj1" fmla="val 25002"/>
              <a:gd name="adj2" fmla="val 25000"/>
              <a:gd name="adj3" fmla="val 27771"/>
              <a:gd name="adj4" fmla="val 6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1312920"/>
            <a:ext cx="2448000" cy="100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АЗВИВАЮЩАЯ ФУНКЦИЯ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63480" y="4360680"/>
            <a:ext cx="8229600" cy="187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Во время опроса должно быть развитие речи, памяти, мышления: логического, креативного, интуитивного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4824360" y="3035160"/>
            <a:ext cx="3095640" cy="1224000"/>
          </a:xfrm>
          <a:prstGeom prst="downArrowCallout">
            <a:avLst>
              <a:gd name="adj1" fmla="val 63234"/>
              <a:gd name="adj2" fmla="val 64363"/>
              <a:gd name="adj3" fmla="val 16667"/>
              <a:gd name="adj4" fmla="val 6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3851280" y="701640"/>
            <a:ext cx="5041800" cy="22320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рироста психических операций в определённых психических процесс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/>
          <p:cNvSpPr/>
          <p:nvPr/>
        </p:nvSpPr>
        <p:spPr>
          <a:xfrm>
            <a:off x="181080" y="507960"/>
            <a:ext cx="4678200" cy="2594160"/>
          </a:xfrm>
          <a:prstGeom prst="rightArrowCallout">
            <a:avLst>
              <a:gd name="adj1" fmla="val 25002"/>
              <a:gd name="adj2" fmla="val 25000"/>
              <a:gd name="adj3" fmla="val 27768"/>
              <a:gd name="adj4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29667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ОСПИТЫВАЮЩАЯ ФУНКЦИЯ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44480" y="4452480"/>
            <a:ext cx="8229600" cy="2000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контроля у учащихся должны развиваться сотрудничество, законопослушание, старательность, ответственность,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я Я – концепция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5580000" y="3135240"/>
            <a:ext cx="3097440" cy="1224000"/>
          </a:xfrm>
          <a:prstGeom prst="downArrowCallout">
            <a:avLst>
              <a:gd name="adj1" fmla="val 63270"/>
              <a:gd name="adj2" fmla="val 64401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4881600" y="476280"/>
            <a:ext cx="4105080" cy="25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, на сколько реализуется процесс принятия, стабилизации, устойчивости изучаемого учебного материала, норм проведения контро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/>
          <p:cNvSpPr/>
          <p:nvPr/>
        </p:nvSpPr>
        <p:spPr>
          <a:xfrm>
            <a:off x="31680" y="547560"/>
            <a:ext cx="3963960" cy="2160720"/>
          </a:xfrm>
          <a:prstGeom prst="rightArrowCallout">
            <a:avLst>
              <a:gd name="adj1" fmla="val 25002"/>
              <a:gd name="adj2" fmla="val 25000"/>
              <a:gd name="adj3" fmla="val 27773"/>
              <a:gd name="adj4" fmla="val 66667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680" y="1123920"/>
            <a:ext cx="2665440" cy="100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ТИМУЛИРУЮЩАЯ ФУНКЦИЯ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24000" y="3716280"/>
            <a:ext cx="8229600" cy="2881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Контроль должен стимулировать желание ребёнка заниматься данным предметом.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Для этого необходимы: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Объяснение критериев оценки;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Разумные требования;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Принцип открытых перспектив;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Вселение успеха;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Частота контроля;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Rockwell"/>
              </a:rPr>
              <a:t>Словесное одобрение.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4788000" y="2708280"/>
            <a:ext cx="3097080" cy="1008000"/>
          </a:xfrm>
          <a:prstGeom prst="downArrowCallout">
            <a:avLst>
              <a:gd name="adj1" fmla="val 76820"/>
              <a:gd name="adj2" fmla="val 78192"/>
              <a:gd name="adj3" fmla="val 16667"/>
              <a:gd name="adj4" fmla="val 66667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995640" y="260280"/>
            <a:ext cx="5042160" cy="23767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, насколько ученики готовятся к уроку, насколько они активны во время опроса, насколько формируется мотивация для занятий данным предм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20520" y="582480"/>
            <a:ext cx="3672000" cy="2160720"/>
          </a:xfrm>
          <a:prstGeom prst="rightArrowCallout">
            <a:avLst>
              <a:gd name="adj1" fmla="val 25002"/>
              <a:gd name="adj2" fmla="val 25000"/>
              <a:gd name="adj3" fmla="val 28324"/>
              <a:gd name="adj4" fmla="val 6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160" y="1158840"/>
            <a:ext cx="3111480" cy="1008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РРЕКТИРУЮЩА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ФУНКЦИЯ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4720" y="4187880"/>
            <a:ext cx="8229600" cy="2016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 должен стимулировать учащихся к изменению своего стиля занятий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ая информация об успеваемости учащихся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результатов опроса педагог корректирует свою деятельность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4932360" y="2852640"/>
            <a:ext cx="3097080" cy="1224000"/>
          </a:xfrm>
          <a:prstGeom prst="downArrowCallout">
            <a:avLst>
              <a:gd name="adj1" fmla="val 63263"/>
              <a:gd name="adj2" fmla="val 64393"/>
              <a:gd name="adj3" fmla="val 16667"/>
              <a:gd name="adj4" fmla="val 6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692520" y="225360"/>
            <a:ext cx="5041800" cy="25178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оценивания должен исправлять, поправлять поведение ученика и преподавателя, если их поведение не соответствует требованиям учебного проце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6836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ентация на индивидуальную относительную норму в оценке, когда точкой отсчёта становится ученик, специфика его развития, особенности его учебной деятельности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тимистический взгляд на учащихся – ожидание учебных успехов от каждого ученика, положительное подкрепление даже небольшого продвижения в усвоении материала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оценок как обратной связи – необходимой для ученика информации об эффективности его работы, а не как средства жёсткого контроля, давления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 не только за результатом, но и за процессом учебной работы школьника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ключение учащихся в оценочную деятельность, обучение их умению оценивать свою работу и работу одноклассников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ая включённость учителя, не допускающая равнодушия к ученику, поиск оптимальных форм поощрения и осторожное использование отрицательных оценок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положительного эмоционального фона оценочной ситуации независимо от того, какую оценку получает ученик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АНКЕТИРОВАНИЕ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Rockwell"/>
              </a:rPr>
              <a:t>Уважаемые коллеги-преподаватели!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выявления стиля, применяемого при оценивании знаний учащихся, просим вас ответить на предложенную анкету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тите ряд суждений. После каждой фразы даны 3 суждения о правомерности заключенной в ней мысли. Пожалуйста, подчеркните те суждения, с которыми вы согласны. Постарайтесь выполнить эту работу за 5 минут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324000" y="133200"/>
            <a:ext cx="81374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Отметка выражает мнение преподавателя о знаниях уче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только мнение преподавател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а может отражать и мнение групп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Если ученик долго не успевает по какому-нибудь предмету, преподаватель уже, к сожалению, не в состоянии ему помоч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бязате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Учащемуся нужно объяснить, продвинулся ли он в своих знаниях по сравнению с его предыдущими результа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бязате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нуж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Похвала по ходу выполнения задания приносит больше пользы, чем отметки за всю сделанную раб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оглас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Достигается нужный воспитательный эффект, если сравнивать учеников, имеющих разную успеваем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оглас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Organization Chart 5"/>
          <p:cNvGrpSpPr/>
          <p:nvPr/>
        </p:nvGrpSpPr>
        <p:grpSpPr>
          <a:xfrm>
            <a:off x="1508760" y="655560"/>
            <a:ext cx="6045840" cy="5470920"/>
            <a:chOff x="1508760" y="655560"/>
            <a:chExt cx="6045840" cy="5470920"/>
          </a:xfrm>
        </p:grpSpPr>
        <p:cxnSp>
          <p:nvCxnSpPr>
            <p:cNvPr id="210" name="_s1028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4379040" y="2116440"/>
              <a:ext cx="1983960" cy="1582560"/>
            </a:xfrm>
            <a:prstGeom prst="bentConnector3">
              <a:avLst>
                <a:gd name="adj1" fmla="val 57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3" name="_s1029"/>
            <p:cNvCxnSpPr>
              <a:stCxn id="214" idx="0"/>
              <a:endCxn id="212" idx="2"/>
            </p:cNvCxnSpPr>
            <p:nvPr/>
          </p:nvCxnSpPr>
          <p:spPr>
            <a:xfrm flipV="1" rot="16200000">
              <a:off x="3740760" y="2755080"/>
              <a:ext cx="3260880" cy="1582560"/>
            </a:xfrm>
            <a:prstGeom prst="bentConnector3">
              <a:avLst>
                <a:gd name="adj1" fmla="val 35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5" name="_s1030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5059080" y="1436760"/>
              <a:ext cx="624240" cy="1582560"/>
            </a:xfrm>
            <a:prstGeom prst="bentConnector3">
              <a:avLst>
                <a:gd name="adj1" fmla="val 183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7" name="_s1031"/>
            <p:cNvCxnSpPr>
              <a:stCxn id="218" idx="0"/>
              <a:endCxn id="212" idx="2"/>
            </p:cNvCxnSpPr>
            <p:nvPr/>
          </p:nvCxnSpPr>
          <p:spPr>
            <a:xfrm flipH="1" flipV="1" rot="5400000">
              <a:off x="3447000" y="1445400"/>
              <a:ext cx="662400" cy="1603800"/>
            </a:xfrm>
            <a:prstGeom prst="bentConnector3">
              <a:avLst>
                <a:gd name="adj1" fmla="val 172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9" name="_s1032"/>
            <p:cNvCxnSpPr>
              <a:stCxn id="220" idx="0"/>
              <a:endCxn id="212" idx="2"/>
            </p:cNvCxnSpPr>
            <p:nvPr/>
          </p:nvCxnSpPr>
          <p:spPr>
            <a:xfrm flipH="1" flipV="1" rot="5400000">
              <a:off x="2129400" y="2726280"/>
              <a:ext cx="3260880" cy="1640880"/>
            </a:xfrm>
            <a:prstGeom prst="bentConnector3">
              <a:avLst>
                <a:gd name="adj1" fmla="val 35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1" name="_s1033"/>
            <p:cNvCxnSpPr>
              <a:stCxn id="222" idx="0"/>
              <a:endCxn id="212" idx="2"/>
            </p:cNvCxnSpPr>
            <p:nvPr/>
          </p:nvCxnSpPr>
          <p:spPr>
            <a:xfrm flipH="1" flipV="1" rot="5400000">
              <a:off x="2768040" y="2087640"/>
              <a:ext cx="1983960" cy="1640880"/>
            </a:xfrm>
            <a:prstGeom prst="bentConnector3">
              <a:avLst>
                <a:gd name="adj1" fmla="val 57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2" name="_s1034"/>
            <p:cNvSpPr/>
            <p:nvPr/>
          </p:nvSpPr>
          <p:spPr>
            <a:xfrm>
              <a:off x="3020400" y="655560"/>
              <a:ext cx="3117960" cy="122328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9ec5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Функции контрол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1035"/>
            <p:cNvSpPr/>
            <p:nvPr/>
          </p:nvSpPr>
          <p:spPr>
            <a:xfrm>
              <a:off x="1508760" y="3938040"/>
              <a:ext cx="2862360" cy="8733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рогностическ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1036"/>
            <p:cNvSpPr/>
            <p:nvPr/>
          </p:nvSpPr>
          <p:spPr>
            <a:xfrm>
              <a:off x="1508760" y="5214960"/>
              <a:ext cx="2862360" cy="9115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риентирующ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1037"/>
            <p:cNvSpPr/>
            <p:nvPr/>
          </p:nvSpPr>
          <p:spPr>
            <a:xfrm>
              <a:off x="1508760" y="2616480"/>
              <a:ext cx="2933640" cy="8733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бучающ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1038"/>
            <p:cNvSpPr/>
            <p:nvPr/>
          </p:nvSpPr>
          <p:spPr>
            <a:xfrm>
              <a:off x="4769280" y="2578320"/>
              <a:ext cx="2785320" cy="9115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Диагностическ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1039"/>
            <p:cNvSpPr/>
            <p:nvPr/>
          </p:nvSpPr>
          <p:spPr>
            <a:xfrm>
              <a:off x="4769280" y="5214960"/>
              <a:ext cx="2785320" cy="9115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оспитывающ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1040"/>
            <p:cNvSpPr/>
            <p:nvPr/>
          </p:nvSpPr>
          <p:spPr>
            <a:xfrm>
              <a:off x="4769280" y="3938040"/>
              <a:ext cx="2785320" cy="8733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50b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азвивающ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Во время опроса преподаватель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ориентируется на мнение ученика, следит за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ом его рассуждений и старается развить его мысли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равило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дко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м нет необходимости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Отметка должна быть «заработана» учеником, она не может даваться авансом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ен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огласен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Невыученный урок должен соответственно оцениваться, ученик не имеет права отказываться от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а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это справедливо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это не верно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порный вопрос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Можно использовать умение учащихся оценивать свою работу и работу товарищей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улярно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едка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на это никогда не остается времени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Оцениваться должен результат выполненного учеником задания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это достижение результата – объективный критерий оценки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важно учесть и нестандартные способы решения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324000" y="583200"/>
            <a:ext cx="83516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Во время урока положительные и отрицательные оценки действий ученика должны уравновешивать друг друг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не следует увлекаться чем-то одним – похвалами или замечания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положительных оценок должно быть больш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полезнее преобладание отрицательных оцен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) Когда ученик отвечает не очень уверенно, ему следует вовремя помоч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бязатель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ать во время опроса не нуж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) Активность учащихся на уроке – еще не показатель продуктивности их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это взаимосвязанные момент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поэтому видимую активность не стоит высоко оценива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активность и продуктивность работы не всегда совпад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) Оценивая работу ученика, нужно учитывать не только имеющийся результат, но и старания, труд, вложенный в эту работ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нужно делать только в школ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й учет необходим везд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ю, нужно ли это делать вообщ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) В условиях современного образования щадящие отметки исключе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это проявление процентоман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, это гуманно по отношению к детя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 сказ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496800" y="423000"/>
            <a:ext cx="85694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) Если из-за отметки возник конфликт, авторитет преподавателя  предполагает сохранение выставленной отметки, хотя настаивать на ней нужно выдержанно и аргументирован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огласе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е согласе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Не зна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) Полезно противопоставлять учебные результаты учащихся, имеющих одинаковые способности и разное отношение к учен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е согласе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огласе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Не зна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) Если на уроке обсуждается спорный вопрос, спокойное и четкое объяснение преподавателя предпочтительнее, чем шумная дискуссия в групп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е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Не всег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) Выставляя отметку, следует объяснить ученику, за что она поставле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Да, всег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Да, иног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Нет, это ученик должен понимать с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) Преподаватель находит время, чтобы поговорить с каждым учеником о его успеваемости, успехах и недоработ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зред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сег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актически это недостижи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ТАБЛИЦА ПЕРЕВОДА ОТВЕТОВ В БАЛЛЫ</a:t>
            </a:r>
            <a:endParaRPr b="1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95280" y="2852640"/>
          <a:ext cx="8424720" cy="1368360"/>
        </p:xfrm>
        <a:graphic>
          <a:graphicData uri="http://schemas.openxmlformats.org/drawingml/2006/table">
            <a:tbl>
              <a:tblPr/>
              <a:tblGrid>
                <a:gridCol w="401760"/>
                <a:gridCol w="399960"/>
                <a:gridCol w="401760"/>
                <a:gridCol w="401400"/>
                <a:gridCol w="401760"/>
                <a:gridCol w="399960"/>
                <a:gridCol w="401760"/>
                <a:gridCol w="401400"/>
                <a:gridCol w="400320"/>
                <a:gridCol w="401400"/>
                <a:gridCol w="401760"/>
                <a:gridCol w="401760"/>
                <a:gridCol w="399960"/>
                <a:gridCol w="401760"/>
                <a:gridCol w="401400"/>
                <a:gridCol w="400320"/>
                <a:gridCol w="401400"/>
                <a:gridCol w="401760"/>
                <a:gridCol w="401760"/>
                <a:gridCol w="399960"/>
                <a:gridCol w="40140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79280" y="31320"/>
            <a:ext cx="8748720" cy="720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Rockwell"/>
              </a:rPr>
              <a:t>Сумма баллов является количественным показателем оценочных ситуаций и стиля общения преподавателя и учащихся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19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Сумма менее </a:t>
            </a:r>
            <a:r>
              <a:rPr b="1" i="1" lang="ru-RU" sz="2200" spc="-1" strike="noStrike">
                <a:solidFill>
                  <a:srgbClr val="ffffff"/>
                </a:solidFill>
                <a:latin typeface="Rockwell"/>
              </a:rPr>
              <a:t>28</a:t>
            </a: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 баллов. </a:t>
            </a:r>
            <a:r>
              <a:rPr b="0" lang="ru-RU" sz="2200" spc="-1" strike="noStrike">
                <a:solidFill>
                  <a:srgbClr val="ffffff"/>
                </a:solidFill>
                <a:latin typeface="Rockwell"/>
              </a:rPr>
              <a:t>Стиль общения оценивается как </a:t>
            </a:r>
            <a:r>
              <a:rPr b="1" i="1" lang="ru-RU" sz="2600" spc="-1" strike="noStrike" u="sng">
                <a:solidFill>
                  <a:srgbClr val="de9c3c"/>
                </a:solidFill>
                <a:uFillTx/>
                <a:latin typeface="Rockwell"/>
              </a:rPr>
              <a:t>авторитарный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даватели этого типа создают оценочные ситуации, имеющие отрицательный эмоциональный фон, и редко используют содержательную оценку. Этот стиль нуждается в коррекции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19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Сумма </a:t>
            </a:r>
            <a:r>
              <a:rPr b="1" i="1" lang="ru-RU" sz="2200" spc="-1" strike="noStrike">
                <a:solidFill>
                  <a:srgbClr val="ffffff"/>
                </a:solidFill>
                <a:latin typeface="Rockwell"/>
              </a:rPr>
              <a:t>28 – 33</a:t>
            </a: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 балла. </a:t>
            </a:r>
            <a:r>
              <a:rPr b="0" lang="ru-RU" sz="2200" spc="-1" strike="noStrike">
                <a:solidFill>
                  <a:srgbClr val="ffffff"/>
                </a:solidFill>
                <a:latin typeface="Rockwell"/>
              </a:rPr>
              <a:t>Стиль общения квалифицируется как </a:t>
            </a:r>
            <a:r>
              <a:rPr b="1" i="1" lang="ru-RU" sz="2600" spc="-1" strike="noStrike" u="sng">
                <a:solidFill>
                  <a:srgbClr val="de9c3c"/>
                </a:solidFill>
                <a:uFillTx/>
                <a:latin typeface="Rockwell"/>
              </a:rPr>
              <a:t>демократический.</a:t>
            </a:r>
            <a:r>
              <a:rPr b="0" lang="ru-RU" sz="2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ентация преподавателя на результативность обучения сочетается с ориентацией на личное развитие учащихся. Есть основания считать такой стиль общения с учащимися оптимальным в условиях современного образования, что, безусловно, не гарантирует от ошибок преподавателя в отдельных оценочных ситуациях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19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Сумма </a:t>
            </a:r>
            <a:r>
              <a:rPr b="1" i="1" lang="ru-RU" sz="2200" spc="-1" strike="noStrike">
                <a:solidFill>
                  <a:srgbClr val="ffffff"/>
                </a:solidFill>
                <a:latin typeface="Rockwell"/>
              </a:rPr>
              <a:t>34 – 40</a:t>
            </a:r>
            <a:r>
              <a:rPr b="0" i="1" lang="ru-RU" sz="2200" spc="-1" strike="noStrike">
                <a:solidFill>
                  <a:srgbClr val="ffffff"/>
                </a:solidFill>
                <a:latin typeface="Rockwell"/>
              </a:rPr>
              <a:t> баллов. </a:t>
            </a:r>
            <a:r>
              <a:rPr b="0" lang="ru-RU" sz="2200" spc="-1" strike="noStrike">
                <a:solidFill>
                  <a:srgbClr val="ffffff"/>
                </a:solidFill>
                <a:latin typeface="Rockwell"/>
              </a:rPr>
              <a:t>Стиль общения считается </a:t>
            </a:r>
            <a:r>
              <a:rPr b="1" i="1" lang="ru-RU" sz="2600" spc="-1" strike="noStrike" u="sng">
                <a:solidFill>
                  <a:srgbClr val="de9c3c"/>
                </a:solidFill>
                <a:uFillTx/>
                <a:latin typeface="Rockwell"/>
              </a:rPr>
              <a:t>либеральным.</a:t>
            </a:r>
            <a:r>
              <a:rPr b="0" lang="ru-RU" sz="2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реподавателя преобладает стремление к созданию благоприятной психологической атмосферы в классе. Однако следует иметь в виду, что стиль дает прекрасные результаты только при высоком уровне профессионального мастерства педагога. Если же этот уровень не является максимально высоким, существует реальная опасность потери возможностей управления ходом урока в классе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19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626436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Bookman Old Style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Bookman Old Style"/>
              </a:rPr>
              <a:t>ЗА ВНИМАНИЕ!</a:t>
            </a:r>
            <a:endParaRPr b="1" lang="en-US" sz="6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ОБУЧАЮЩАЯ ФУНКЦИЯ КОНТРОЛЯ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ается в совершенствовании знаний и умений, их систематизации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цессе проверки учащиеся повторяют и закрепляют изученный материал. Они не только воспроизводят ранее изученное, но и применяют знания и умения в новой ситуации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ДИАГНОСТИЧЕСКАЯ ФУНКЦИЯ КОНТРОЛЯ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ается в получении информации об ошибках, недочетах и пробелах в знаниях и умениях учащихся;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ает выявить причину и выбрать наиболее интенсивную методику обучения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ПРОГНОСТИЧЕСКАЯ ФУНКЦИЯ КОНТРОЛЯ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ит получению опережающей информации об учебно-воспитательном процессе. В результате проверки получают основания для прогноза о ходе определенного отрезка учебного процесса: достаточно ли сформированы конкретные знания, умения и навыки для усвоения последующей порции учебного материала (раздела, темы)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РАЗВИВАЮЩАЯ ФУНКЦИЯ КОНТРОЛЯ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оит в стимулировании познавательной активности учащихся, в развитии их творческих способностей. Контроль обладает исключительными возможностями в развитии учащихся. В процессе контроля развиваются речь, память, внимание, воображение, воля и мышление учащихся, формируются мотивы познавательной деятельности. Контроль оказывает большое влияние на развитие и проявление таких качеств личности, как способности, склонности, интересы, потребности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ОРИЕНТИРУЮЩАЯ ФУНКЦИЯ КОНТРОЛЯ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80720"/>
            <a:ext cx="85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ается в получении информации о степени достижения цели обучения отдельным учеником и группе в целом - насколько усвоен и как глубоко изучен учебный материал. Контроль ориентирует учащихся в их затруднениях и достижениях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ВОСПИТЫВАЮЩАЯ ФУНКЦИЯ КОНТРОЛЯ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оит в воспитании у учащихся ответственного отношения к учению, дисциплины, аккуратности, честности. Проверка побуждает учащихся более серьезно и регулярно контролировать себя при выполнении заданий. Она является условием воспитания твердой воли, настойчивости, привычки к регулярному труду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6:30:46Z</dcterms:created>
  <dc:creator>Фамилия И.О.</dc:creator>
  <dc:description/>
  <dc:language>en-US</dc:language>
  <cp:lastModifiedBy>Пользователь</cp:lastModifiedBy>
  <cp:lastPrinted>2012-10-27T15:50:36Z</cp:lastPrinted>
  <dcterms:modified xsi:type="dcterms:W3CDTF">2019-10-30T19:21:15Z</dcterms:modified>
  <cp:revision>39</cp:revision>
  <dc:subject/>
  <dc:title>Педсовет</dc:title>
</cp:coreProperties>
</file>